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AB89-15A2-49E6-9788-E90212D29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29A8-F78D-4276-A1E7-5737A636C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C6EC-DF2E-4807-80AF-76CDF896A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D44C-54D6-4D3E-8A69-64B495A63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75C3-99EB-4B87-8BE3-6F94DA4E7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ECC4-EFF3-429B-BAFC-828199C9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A4C7-107D-4A77-91D3-1AD722DD9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87B1-F096-4023-BC02-E642C3A49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1740-5E9F-4EA2-8219-60BEA0723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8498-2764-4F7D-B9CE-B67BE05615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606E-E197-44BD-9D88-80F335E71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635F-0232-4671-87B9-17991BEB7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19B8-1605-4D29-90E6-94FE1BDBB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FC17-F35B-4462-B973-3388666B7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A7F7-2AC9-4DB9-98AA-7AF071204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9972-1C1B-4E0F-95F0-2F4369304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1C1B-A425-4F5F-8FF2-FA1D79A93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AE8F-135B-469D-A7E0-0DBA397C3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EA97-92B6-4C99-9EE7-5551CE165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D2D1-E1CB-4334-AEAB-DFCC15ECD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hirtee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gram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3-1.jpg"/>
          <p:cNvPicPr/>
          <p:nvPr/>
        </p:nvPicPr>
        <p:blipFill>
          <a:blip r:embed="rId1"/>
          <a:stretch/>
        </p:blipFill>
        <p:spPr>
          <a:xfrm>
            <a:off x="2209680" y="2666880"/>
            <a:ext cx="514980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80EE-1713-4C1E-993E-3A9215AD3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is training that is designed to provide employees with essential skills required to perform their job, and adapt to workplac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becoming more important as competition in world econom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ccess of other training programs can be affected if essential skills no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has benefits for the organization and the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325A-83BD-4BF9-837C-C8143705F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in specific job skills that all employees need to perform their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3-3.jpg"/>
          <p:cNvPicPr/>
          <p:nvPr/>
        </p:nvPicPr>
        <p:blipFill>
          <a:blip r:embed="rId1"/>
          <a:stretch/>
        </p:blipFill>
        <p:spPr>
          <a:xfrm>
            <a:off x="228600" y="2743200"/>
            <a:ext cx="421308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13-4.jpg"/>
          <p:cNvPicPr/>
          <p:nvPr/>
        </p:nvPicPr>
        <p:blipFill>
          <a:blip r:embed="rId2"/>
          <a:stretch/>
        </p:blipFill>
        <p:spPr>
          <a:xfrm>
            <a:off x="4648320" y="2743200"/>
            <a:ext cx="42606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167B-AAA2-4C23-B20A-C269A435F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in the manufacturing sectors, employers have had to respond to global competition, rapid change, and new technology  (environmental factors) with increased focus on technic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killed employees have had to become high skilled employees to ensure job security and organizational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e discussion of the impact of environmental factors on training in Ch 1 as illustrated in the Context of Training and Development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622E-A946-4B37-90BC-31EEFEA7A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formation Technolog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programs that focus on the use of computers and comput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uter software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programs that focus on how to use a specific computer softwar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461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ly changing technology and computer applications makes this a challenge to meet employee trai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F089-F8E8-448B-B12C-D8129A75B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roximately 900 workers die in Canada as a result of workplace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50 000 Canadian workers have a lost tim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place injuries estimated to cost $12 billion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13-6.jpg"/>
          <p:cNvPicPr/>
          <p:nvPr/>
        </p:nvPicPr>
        <p:blipFill>
          <a:blip r:embed="rId1"/>
          <a:stretch/>
        </p:blipFill>
        <p:spPr>
          <a:xfrm>
            <a:off x="6324480" y="1676520"/>
            <a:ext cx="26481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C9E5-A79B-4286-91EB-0915FF6F9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afety training is one of most important ways to deal with accidents before they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goal is to educate employees in safe work method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ing programs offered may also include first aid, CPR, defensive driving, and emergency prepared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ployees should also be trained to recognize chemical and phys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49AF-9D7F-4EBE-9797-60C75221B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orkplace Hazardous Materials Information Systems (WHI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gislation to ensure workers          across Canada are aware of         potential hazards of chemicals       in the workplace, and are familiar with emergency procedures for    the clean-up and disposal of a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3-7.jpg"/>
          <p:cNvPicPr/>
          <p:nvPr/>
        </p:nvPicPr>
        <p:blipFill>
          <a:blip r:embed="rId1"/>
          <a:stretch/>
        </p:blipFill>
        <p:spPr>
          <a:xfrm>
            <a:off x="6227640" y="2666880"/>
            <a:ext cx="2916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3D8A-0C11-41BF-9598-B8C97F5C4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Qual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tal quality management (TQ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stematic process of continual improvement of the quality of an organization’s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so includes a teamwork and customer servic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QM often requires  significant changes in employees’ skills and the way employee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involves team training, the use of statistical tools,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42D1-7D4D-4729-AD09-D44E7BB58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am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that are designed to improve the functioning and effectiveness of teams in areas such as communication and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processes are usually th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training focuses on two type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should be mastered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384F-6589-4407-9DBA-78ADA33BB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ale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day, sales professionals need to devel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strategic and complex relationships with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nowledge and understanding of customer’s needs an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lutions to customers’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business partner men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st have knowledge about their own products an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than just “motivating” staff to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F402-5894-4B4C-AFEF-9EDF9D3DA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orientation training programs and essenti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echnical skills training and information technolog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MIS legislation and describe the type of information that should be included in health and safe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otal quali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A35E-634F-430A-B946-8951DF37E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ustomer Service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1360" y="1617840"/>
            <a:ext cx="80931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s with strong commitment to customer service invest heavily in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raining needs to be tailored to meet the organization’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well as its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s must hav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abil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provide excellen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13-8.jpg"/>
          <p:cNvPicPr/>
          <p:nvPr/>
        </p:nvPicPr>
        <p:blipFill>
          <a:blip r:embed="rId1"/>
          <a:stretch/>
        </p:blipFill>
        <p:spPr>
          <a:xfrm>
            <a:off x="5486400" y="2819520"/>
            <a:ext cx="182556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59FC-DDDC-49A7-86E5-EBCF00931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exual Harassment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xual harassment training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what constitutes sexual hara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train staff on policies and complai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cilitate a positive climate that prevents  sexual ha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mandatory in certain occupational fields or environments where history of harassment has been pre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5016-3363-4E66-B12A-410F5F1E5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ics training programs involve teaching employees about the organizations’ values and ethic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y with legal  mand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in liability prot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ing an ethical culture and workplac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racting and retaining the right type of employ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EA10-171D-4BD5-9585-2FBFC3153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n effective ethics training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copy of organization’s code of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relevant complian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thical decision mak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playing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2A7B-AECD-4D5A-986F-0B70D5089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focuses on differences in values, attitudes, and behaviours of individuals with different background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It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cultur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improve interaction and communication among employees with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 of most widely used strategies for managing diversity in the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6A45-4B07-4CCC-8EB7-D14C6C784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bout divers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duce biases and stere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nge behaviours to those required to work effectively in a diverse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13-9.jpg"/>
          <p:cNvPicPr/>
          <p:nvPr/>
        </p:nvPicPr>
        <p:blipFill>
          <a:blip r:embed="rId1"/>
          <a:stretch/>
        </p:blipFill>
        <p:spPr>
          <a:xfrm>
            <a:off x="6413400" y="1752480"/>
            <a:ext cx="27306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2911-DCB8-4D61-9628-7ADED4AEE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should 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5D0B-7A8B-41A9-901A-FFEECB25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prepares employees for working and living in different cultures and for interactions with persons from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rigour is a critical factor in the effectiveness of the various methods used in cross cultur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3-11.jpg"/>
          <p:cNvPicPr/>
          <p:nvPr/>
        </p:nvPicPr>
        <p:blipFill>
          <a:blip r:embed="rId1"/>
          <a:stretch/>
        </p:blipFill>
        <p:spPr>
          <a:xfrm>
            <a:off x="6291360" y="1447920"/>
            <a:ext cx="28526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8F0B-E5DC-48A8-9E4D-0B87775E1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jor types of cross-cultural train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vironment brief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assimi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nguag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nsitivit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el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ED5A-3697-43BA-9E05-2475A0DFB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raining Rig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The degree of mental involvement and effort that must be expended by the trainer and the trainee in order for the trainee to learn the required concep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967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Also refers to the length of time spent on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09960" y="4800600"/>
            <a:ext cx="88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um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 Rig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pl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tr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language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6720" y="4267080"/>
            <a:ext cx="63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fferent Levels of Rigo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D733-623A-4858-AE1A-2B3630795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eam training and the main skills required of team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sales training and the skills required to be effective in s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customer-service training and the skills that employees require to interact effectively with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sexual harassment and describe sexual harassment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ethics training, diversity training and cross-cultural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EA4-0257-4752-8799-2433F9528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gree of rigour required depends on three dim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it is to adjust to a new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ent to which employee will have to interact with lo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tasks/job will be compared to current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009D-EAB0-43E4-B788-26E18E4B5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or an effective cross-cultural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be considered manda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 should be chosen based                                on needs of the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th of training is of utmost impor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ies must be incorporated in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training should be incorpo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 and expectations of training should be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er’s Notebook 1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924C-2A5D-4D42-96B2-19294FC7B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jor types of training programs offered in today’s organizations was pres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objectives, components, and success factors for many of the training program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k between the need for these programs, environmental influences in the world economy, and organizations’ strategies was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ABC1-7402-422F-8F7E-F46CF0EBB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variety of training programs are delivered in or provided to organizations across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actors influence what training is delivered and specific goals of each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ost programs have common or generic goals that are transferable across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organizational factors will als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wh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aining i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13.1 highlights the most common training programs in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20BB-5B3D-4BCA-A179-0A90955FF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ypes of Training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34320" y="1752120"/>
            <a:ext cx="1828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p393.jpg"/>
          <p:cNvPicPr/>
          <p:nvPr/>
        </p:nvPicPr>
        <p:blipFill>
          <a:blip r:embed="rId1"/>
          <a:stretch/>
        </p:blipFill>
        <p:spPr>
          <a:xfrm>
            <a:off x="1828800" y="1639800"/>
            <a:ext cx="54864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B757-E7A3-48BE-B59B-7F6F50CC4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New Employee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Orientation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designed to introduce new employees to their job, the people they will be working with, and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nducted in-house by human resource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orientation programs have a positive effect on new employee attitudes and adjustment, can shape corporate culture, increase speed-to-proficiency, and lower turn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B3A0-2231-4EA6-B463-345778052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are required for work, learning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e essential skills identified by Government of Ca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13-2.jpg"/>
          <p:cNvPicPr/>
          <p:nvPr/>
        </p:nvPicPr>
        <p:blipFill>
          <a:blip r:embed="rId1"/>
          <a:stretch/>
        </p:blipFill>
        <p:spPr>
          <a:xfrm>
            <a:off x="914400" y="419112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7AD6-5165-428B-B9A7-35A991387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essential skills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eracy skil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and employ printed information in daily activities at home, at work, and in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395-8D8C-42E1-AD01-819CA7C08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eracy Levels of Can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% of Canadians aged 16-65 in the lowest levels  and are semi-lit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 million in the upper Level 2 and lower Level 3 (there are five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58% of Canadians can read well enough to meet most day-to-da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50:33Z</dcterms:modified>
  <cp:revision>410</cp:revision>
  <dc:subject/>
  <dc:title>Ch 13</dc:title>
</cp:coreProperties>
</file>